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3845-9DF6-4FD2-97E5-CD7EE6665F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B2D-01BD-4A84-9400-2286AD1E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004-B1E9-4DA7-96C7-C74951B0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3E2-C3B8-4BB8-9CA5-2AC80580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36C-75A0-4400-B762-601A35E6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4EEE-E17C-4B0D-889F-97089B92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03BD-D8CC-415D-812B-112957AC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0983-99AA-420C-883A-ECCE3879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25BE-0320-4602-8EB4-7CE33109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1718-6BD0-4605-959F-000737F9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D60C-B0A5-41A5-AD00-F29BD703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7203-9EDC-40EB-AB86-0127AA6A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586-6950-4A05-99CE-07D4FF0C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2B7D-16A5-45EA-BEE3-C7D851A7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08E6-0A35-4118-97AA-69ED52F6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B8DE-C521-4A40-AD86-A37AEFE1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A3C3-3512-4A65-8F73-99643A0E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743F-F2E8-49C4-9752-FD896AD1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82E-B058-4B10-B179-EE95402E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D37-FB68-4295-8429-455704CB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F1C-EB4F-41F2-BD66-3764CFB5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D20D-BBDC-47E6-B592-89A5884F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899-1CBE-4362-8012-5140AFAC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430-654B-4DE7-A4E4-B470351A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ADA-B1B4-461E-825C-6A4469C8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55A5-824A-4E15-A255-BB7CBC2E85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EEF1-BFCE-46A5-A4E8-40BDECD1E615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0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7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1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63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7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0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5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9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2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5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RomaK</cp:lastModifiedBy>
  <dcterms:modified xsi:type="dcterms:W3CDTF">2015-09-04T10:41:22Z</dcterms:modified>
  <cp:revision>46</cp:revision>
  <dc:subject/>
  <dc:title>Slide 1</dc:title>
</cp:coreProperties>
</file>